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A0A6-1A40-447C-BB02-A54E2220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1698-4980-47E0-9E0C-3546491B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BF4A-D168-4401-8427-9F45B710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0941-FB63-4DBD-95C2-A51BF155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CAB9-D979-4C36-8FA2-ED89716C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28A9-1F02-4E80-9923-B9067BD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C96F-1926-4DCA-BB24-BBA3EBD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BE1-4E85-48E0-BA26-3C4594D0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AF1-62AF-49A4-81E5-4693748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AA7-2954-4E6D-8D07-6427B225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9F0-433B-4523-9BBB-183805E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36BB-3CD0-43D8-A9B3-F7BB2A8E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0497-85DA-4C8F-82D4-8CB1987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EDB2-97E0-4EDC-A6F5-CC28028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B236-0DB3-4A59-85F2-8DFDC5C9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D5C-B0E4-4BDF-B110-76E185EA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2D07-AF92-489B-99A1-35CB875C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9C4D-1440-420F-B5E2-0E3BC02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5D99-67F6-49D1-A6EF-9D66794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46A9-74A4-41E5-897E-BF45D92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9E48-39A2-4C9F-9D85-1441B8D7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A75E-A345-41D3-BC82-BD8B9A1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2013-237F-4B21-B54C-20FD850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92C6-9D40-4BC0-B4A0-D7A82E5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11BA-250F-4833-9FB8-C77CD58FE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C2D-D818-4F3B-8ED4-3722B8978C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Можно ли существовать без нервной системы?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819520" cy="31435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920" y="11430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1752480"/>
            <a:ext cx="73152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з нервной системы существовать невозможно, так как она отвечает з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получение, хранение и переработку информации из внешней и внутренне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регуляцию и координацию деятельности всех органов и органных сист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dfdef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помощью данного проекта вы сможете сформировать знания об особенностях строения, функционирования нервной системы, а также выяснить «Можно ли существовать без нервной системы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рыть  значение и строение нерв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тизировать знания о строении ней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улировать понятие нерв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733920" cy="2790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191120" y="914400"/>
            <a:ext cx="4267080" cy="2590920"/>
          </a:xfrm>
          <a:prstGeom prst="wedgeRoundRectCallout">
            <a:avLst>
              <a:gd name="adj1" fmla="val -43564"/>
              <a:gd name="adj2" fmla="val 70953"/>
              <a:gd name="adj3" fmla="val 1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дравствуйте, меня зовут нейрон. Предлагаю вам отправиться в удивительное, увлекательное путешествие по нервной системе человека и разгадать загадку о том, можно ли существовать без нервной систем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733920" cy="2791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914400" y="685800"/>
            <a:ext cx="4267080" cy="3124080"/>
          </a:xfrm>
          <a:prstGeom prst="wedgeRoundRectCallout">
            <a:avLst>
              <a:gd name="adj1" fmla="val 40027"/>
              <a:gd name="adj2" fmla="val 70680"/>
              <a:gd name="adj3" fmla="val 1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914400"/>
            <a:ext cx="3581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нам предстоит пройти не легкий путь и ответить на коварные задания, которые придумал злостный вредитель нервной системы – вирус Х (икс). В качестве подсказок вы можете использовать книги, плакаты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6477120" y="4343400"/>
            <a:ext cx="2057400" cy="2233440"/>
            <a:chOff x="6477120" y="4343400"/>
            <a:chExt cx="2057400" cy="223344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6477120" y="434340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6782040" y="62085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533520"/>
            <a:ext cx="6248520" cy="4495680"/>
          </a:xfrm>
          <a:prstGeom prst="wedgeEllipseCallout">
            <a:avLst>
              <a:gd name="adj1" fmla="val 49847"/>
              <a:gd name="adj2" fmla="val 4191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НЕРВНАЯ СИСТЕМ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это совокупность ……. в организме животных и человека, объединяющая деятельность всех …….. и систем, обеспечивающая ………. организма как единого целого в его постоянном взаимодействии с ……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762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ить пропущенные с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5486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трук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1371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3440" y="2286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функцио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40600" y="571500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нешней сред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477120" y="3733920"/>
            <a:ext cx="2057400" cy="2233440"/>
            <a:chOff x="6477120" y="3733920"/>
            <a:chExt cx="2057400" cy="22334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6477120" y="373392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782040" y="5599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0" y="533520"/>
            <a:ext cx="6248520" cy="4495680"/>
          </a:xfrm>
          <a:prstGeom prst="wedgeEllipseCallout">
            <a:avLst>
              <a:gd name="adj1" fmla="val 49847"/>
              <a:gd name="adj2" fmla="val 4191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762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ь сх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295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рвная система (Н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19320" y="1981080"/>
            <a:ext cx="3504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19320" y="2819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2819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23623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2209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нтральная 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2133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ферическая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80952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3316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2819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477120" y="3733920"/>
            <a:ext cx="2057400" cy="2233440"/>
            <a:chOff x="6477120" y="3733920"/>
            <a:chExt cx="2057400" cy="2233440"/>
          </a:xfrm>
        </p:grpSpPr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6477120" y="373392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782040" y="5599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0765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6705720" y="533520"/>
            <a:ext cx="2057400" cy="2233440"/>
            <a:chOff x="6705720" y="533520"/>
            <a:chExt cx="2057400" cy="223344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6705720" y="53352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010640" y="2398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371600" y="228600"/>
            <a:ext cx="4648320" cy="2057400"/>
          </a:xfrm>
          <a:prstGeom prst="wedgeEllipseCallout">
            <a:avLst>
              <a:gd name="adj1" fmla="val 61134"/>
              <a:gd name="adj2" fmla="val 964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533520"/>
            <a:ext cx="2895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писать части ней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053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4495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63244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3341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762120" y="3809880"/>
            <a:ext cx="2057400" cy="2233440"/>
            <a:chOff x="762120" y="3809880"/>
            <a:chExt cx="2057400" cy="223344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762120" y="3809880"/>
              <a:ext cx="20574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067040" y="567504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рус 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3886200" y="457200"/>
            <a:ext cx="4267080" cy="2819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х, вы справились со всеми заданиями! Я уничтожен! Теперь Вы обладатели ключа от той двери, за которой спрятан ответ на вопрос « Можно ли существовать без нервной системы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49:40Z</dcterms:created>
  <dc:creator>user</dc:creator>
  <dc:description/>
  <dc:language>en-US</dc:language>
  <cp:lastModifiedBy>777</cp:lastModifiedBy>
  <dcterms:modified xsi:type="dcterms:W3CDTF">2011-03-17T09:54:0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